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del of hemichannel-induced cell volume regulation. A small reduction of extracellular free calcium ([Ca2+]o) in the physiological range opens hemichannels. Open hemichannels allow flow of ions (primarily Na+ and Cl−) into the cytoplasm, which creates sufficient osmotic gradient for the water flow into the cytoplasm (directly via hemichannels and/or indirectly via aquaporins and diffusion through lipid bilayer). Such water flow raises the cell volume. The subsequent closure of hemichannels leads to a new steady-state cell volume and prevents cell lysis. For a healthy cell, the elevated cell volume triggers regulated volume decrease mechanisms, which restores the original cell volume and ionic concentrations. For abnormal or apoptotic cells, no return to the normal volume and ionic concentration will occu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olume changes of a BICR–M1Rk epithelial cell induced by the removal of extracellular calcium. Real-time AFM images of the volume change and morphological reorganization in a BICR–M1Rk cell. A is an error-mode image of cells incubated in OptiMEM medium with normal calcium (1.8 mM). The white part in the image is due to height saturation. B shows the volume of a portion of the cell when incubated in the OptiMEM medium with normal calcium. C, D, and E show a gradual increase in the cell volume after the extracellular medium was changed to OptiMEM without calcium. Imaging for these panels began 9, 27, and 36 min after changing the medium. When the extracellular medium was changed back to OptiMEM with normal calcium, the cell volume began to decrease and returned to its original value in ∼60 min (F). The z range of the piezo scanner is too small to image the complete height of the cell in these regions. After changing the medium with normal calcium to the calcium-free medium, the saturated portion of the image increases considerably, indicating an overall volume increase of the cell (not shown). To avoid underestimation of the measured volume due to the scanner z-range limit, we selected cell portions that show no saturation in the height data for further study. All images are shown as surface plots, with the cell height color-coded, brighter being higher. The acquisition time for each image is 9 min. As discussed in Materials and Methods, spatial resolution in force plots is very low and hence no cytoskeletal reorganization is apparent. For such study, error-mode height images were taken at regular intervals (data not show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emichannel-specific cell volume increase. A and B show real-time AFM images of a BICR–M1Rk epithelial cell taken in normal OptiMEM medium (A) and after changing to a nominally calcium-free OptiMEM medium in the presence of 10 μM βGCA, a gap-junctional channel antagonist (B). The cell height profile is color- and intensity-coded, brighter being higher in height. No significant change in the cell volume was observed. C shows the net volume change (i.e., C = B − A); darker regions show volume decrease and brighter regions show the volume increase. These changes are not significantly different from the background level. D and E show AFM images of another BICR–M1Rk cell in normal OptiMEM and in calcium-free OptiMEM containing 50 μM oleamide. No significant change in the cell volume was observed (F = E − D). G–I show volume profiles of a nonconnexin expressing normal N2A cell and J–L show volume profiles of a N2A cell with transient Cx43 transfection. G and J show images in OptiMEM with normal calcium (1.8 mM) and H and K show images of the same cells 20 min after changing to nominally calcium-free OptiMEM. Removal of extracellular calcium induces a significant volume increase in Cx43-transfected cells (L), but not in nonconnexin expressing normal N2A cell (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taneous imaging of Cx43-specific LY uptake and volume increase, in response to a reduction in the extracellular calcium concentration. A–E show a N2A cell stably transfected with Cx43, and F–J show a N2A cell transfected with expression vector only. A and F show optical phase-contrast images and E and J show LY uptake fluorescence images of the same cells (arrows in A and F); only Cx43-transfected cells took up LY. The volume changes were also measured for the same cells. B and G show volume profiles in normal OptiMEM, C and H show volume profiles after calcium removal. D and I show the net cell volume change (i.e., D = C − B and I = H − G. The volume of the Cx43-transfected cell changed significantly (D), whereas the cell transfected with expression vector only did not show any increase in cell volume (I). These data also show the unique feature of a combined AFM and optical microscopy system for multimodal imaging in living cells. All images are shown as surface plots, with the cell height color-coded, brighter being hig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change in physiological calcium level induces a volume change. A, C, and E show three endothelial cells in control medium (1.8 mM Ca2+). B shows the same cell as in A after exchanging medium with the same calcium level (a positive control). No volume change occurred due to the exchange of media alone. Reducing the extracellular Ca2+ from 1.8 mM to 1.6 mM, the volume increased by 28% (compare D with C). Reducing the extracellular Ca2+ from 1.8 mM to 1.3 mM, the volume increased by 32% (compare F with E). These data show that the changes of extracellular calcium level in physiological range induce cell volume increase. Scan size: (A and B) 60 μm; (C–H) 50 μm. Effect of MIs on cell volume: images of endothelial cells before (G) and after (H) the addition of MIs, FCCP (10 μM) and dOG (10 mM), in control medium. No volume increase was observed within 10–20 m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extracellular calcium removal on cell elasticity and effect of cytochalasin D on cell volume and structure. Force–distance curves measured at the peripheral region of the same BICR–M1Rk epithelial cell as shown in Fig. 1. A shows force curves at the same location on the cell in normal OptiMEM (black), after calcium removal (red), and after calcium was added back (pink). Removal of extracellular calcium increased cell stiffness (elastic modulus) by ∼50%, as indicated by the larger slope of the curve (compare black and red curves). 36 min after the extracellular calcium returned to normal level, cell stiffness fully recovered as indicated by the overlapped force curves (black and pink curves). All curves are offset to make the point of contact overlap. B shows the change in indentation normalized to the initial normal force curve. In the low calcium medium, applying the same force results in less indentation (negative change; red), indicating a stiffer cell with higher Young's Modulus. After returning the extracellular Ca2+ back to the normal level, the change in the indentation relative to the initial curve was smaller (green curve asymptotically reaches pink curve to the control level). C–E, Effect of cytochalasin D on cell volume and morphology. C–E show that for a KOM-1 endothelial cell, cytochalasin D (1 mM), which degrades the filamentous actin network, caused a rapid decrease in volume and the loss of cell morphology. As discussed in Materials and Methods, the spatial resolution in force volume plots is very low and hence no cytoskeletal disruption is apparent. To examine the cytoskeletal reorganization and disruption, error-mode height images were also taken (data not shown). The insets show simultaneously obtained force volume maps. Bar, 8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fluorescence localization of Cx43 in BICR–M1Rk cells (A–C), KOM-1 bovine aortic endothelial cells (D–F), GM04260 fibroblast cells (G–I), and Cx43-transfected N2A neuroblastoma cells (J–L) by confocal laser scanning microscopy. A, D, G, and J show integrated labelings from all slices (20) of the confocal images across the whole cell thickness. B, E, H, and K show immunolabeling in single slices representing the most peripheral regions of the cells, where only the apposing plasma membranes and no cellular organelles were visible under phase-contrast microscopy. Significant immunostaining was observed in both gap-junctional (thin arrow) and nonjunctional (thick arrow) regions. Such immunolabeling was observed in all cells examined for BICR–M1Rk cells, endothelial cells, and fibroblast cells, though the level of staining varied. For the Cx43-transfected N2A cells, immunostaining was observed for 30–50% of the cells. In cells incubated with only the secondary antibody without preincubation with the primary antibody, no immunostaining was observed and the level of background fluorescence varied between cell types (C, F, and I). Also, in Cx43-transfected N2A cells incubated with normal mouse IgG, no immunostaining was observed (L). Bars: (A–F) 10 μm; (G–L) 50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ye uptake properties of hemichannels in BICR–M1Rk epithelial cells (A and B), KOM-1 endothelial cells (C and D), GM04260 fibroblast cells (E and F), HeLa cells (G and H), N2A neuroblastoma cells (I and J), and Cx43-transfected N2A cells (K and L). Cytoplasmic uptake of LY from the extracellular medium was tested in OptiMEM containing reduced calcium. A, C, E, G, I, and K are phase-contrast images and B, D, F, H, J, and L are the corresponding fluorescence images. A large amount of LY uptake was observed for epithelial and endothelial cells, and a somewhat smaller amount for fibroblasts. HeLa cells, which express a very low level of connexins, showed no LY uptake (H). Similarly, N2A cells do not show any LY uptake (J). In contrast, 40–45% of Cx43-transfected cells show LY uptake (L). The arrows in K denote individual cells and cell clusters with prominent fluorescent signals. Images of dye uptake in BICR, KOM-1, GM04260, and N2A cells were taken when the cells were in suspension, although similar effects were observed for cells attached to the glass coverslip. HeLa cells and Cx43-transfected N2A cells were attached to the coverslips for the LY uptake assay. Bars: (A–H, K, and L) 50 μm; (I and J) 20 μ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qualitative relationship between dye uptake and the extracellular Ca2+ level. An example for such relationship is shown for Cx43-expressing KOM-1 endothelial cells. Cytoplasmic uptake of LY from the extracellular medium was tested in OptiMEM containing 1.8 mM calcium (A and D), 1.6 mM calcium (B and E), and 1.3 mM calcium (C and F). At 1.8 mM, no dye uptake was observed (D). At 1.6 mM, significant dye uptake was observed (E) and at 1.3 mM, a higher level of dye uptake was observed (F). The LY uptake suggests open hemichannels at these calcium levels. Bars, 25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hysiological Role of Gap-Junctional Hemichannel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rjan Pieter Quist, Seung Keun Rhee, Hai Lin, and Ratneshwar La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B</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48(5):1063-107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6,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842320" y="7013520"/>
            <a:ext cx="114300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odel of hemichannel-induced cell volume regulation.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8842320" y="7013520"/>
            <a:ext cx="1143000" cy="457200"/>
          </a:xfrm>
          <a:prstGeom prst="rect">
            <a:avLst/>
          </a:prstGeom>
          <a:ln w="0">
            <a:noFill/>
          </a:ln>
        </p:spPr>
      </p:pic>
      <p:pic>
        <p:nvPicPr>
          <p:cNvPr id="88" name="" descr=""/>
          <p:cNvPicPr/>
          <p:nvPr/>
        </p:nvPicPr>
        <p:blipFill>
          <a:blip r:embed="rId2"/>
          <a:stretch/>
        </p:blipFill>
        <p:spPr>
          <a:xfrm>
            <a:off x="2709720" y="1079640"/>
            <a:ext cx="4665960" cy="5394240"/>
          </a:xfrm>
          <a:prstGeom prst="rect">
            <a:avLst/>
          </a:prstGeom>
          <a:ln w="0">
            <a:noFill/>
          </a:ln>
        </p:spPr>
      </p:pic>
      <p:sp>
        <p:nvSpPr>
          <p:cNvPr id="89" name=""/>
          <p:cNvSpPr/>
          <p:nvPr/>
        </p:nvSpPr>
        <p:spPr>
          <a:xfrm>
            <a:off x="270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olume changes of a BICR–M1Rk epithelial cell induced by the removal of extracellular calcium.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842320" y="7013520"/>
            <a:ext cx="1143000" cy="457200"/>
          </a:xfrm>
          <a:prstGeom prst="rect">
            <a:avLst/>
          </a:prstGeom>
          <a:ln w="0">
            <a:noFill/>
          </a:ln>
        </p:spPr>
      </p:pic>
      <p:pic>
        <p:nvPicPr>
          <p:cNvPr id="48" name="" descr=""/>
          <p:cNvPicPr/>
          <p:nvPr/>
        </p:nvPicPr>
        <p:blipFill>
          <a:blip r:embed="rId2"/>
          <a:stretch/>
        </p:blipFill>
        <p:spPr>
          <a:xfrm>
            <a:off x="2874960" y="1079640"/>
            <a:ext cx="4336920" cy="5394240"/>
          </a:xfrm>
          <a:prstGeom prst="rect">
            <a:avLst/>
          </a:prstGeom>
          <a:ln w="0">
            <a:noFill/>
          </a:ln>
        </p:spPr>
      </p:pic>
      <p:sp>
        <p:nvSpPr>
          <p:cNvPr id="49" name=""/>
          <p:cNvSpPr/>
          <p:nvPr/>
        </p:nvSpPr>
        <p:spPr>
          <a:xfrm>
            <a:off x="2874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emichannel-specific cell volume increa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842320" y="7013520"/>
            <a:ext cx="1143000" cy="457200"/>
          </a:xfrm>
          <a:prstGeom prst="rect">
            <a:avLst/>
          </a:prstGeom>
          <a:ln w="0">
            <a:noFill/>
          </a:ln>
        </p:spPr>
      </p:pic>
      <p:pic>
        <p:nvPicPr>
          <p:cNvPr id="53" name="" descr=""/>
          <p:cNvPicPr/>
          <p:nvPr/>
        </p:nvPicPr>
        <p:blipFill>
          <a:blip r:embed="rId2"/>
          <a:stretch/>
        </p:blipFill>
        <p:spPr>
          <a:xfrm>
            <a:off x="2760840" y="1079640"/>
            <a:ext cx="4563720" cy="5394240"/>
          </a:xfrm>
          <a:prstGeom prst="rect">
            <a:avLst/>
          </a:prstGeom>
          <a:ln w="0">
            <a:noFill/>
          </a:ln>
        </p:spPr>
      </p:pic>
      <p:sp>
        <p:nvSpPr>
          <p:cNvPr id="54" name=""/>
          <p:cNvSpPr/>
          <p:nvPr/>
        </p:nvSpPr>
        <p:spPr>
          <a:xfrm>
            <a:off x="27608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taneous imaging of Cx43-specific LY uptake and volume increase, in response to a reduction in the extracellular calcium concentr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842320" y="7013520"/>
            <a:ext cx="1143000" cy="457200"/>
          </a:xfrm>
          <a:prstGeom prst="rect">
            <a:avLst/>
          </a:prstGeom>
          <a:ln w="0">
            <a:noFill/>
          </a:ln>
        </p:spPr>
      </p:pic>
      <p:pic>
        <p:nvPicPr>
          <p:cNvPr id="58" name="" descr=""/>
          <p:cNvPicPr/>
          <p:nvPr/>
        </p:nvPicPr>
        <p:blipFill>
          <a:blip r:embed="rId2"/>
          <a:stretch/>
        </p:blipFill>
        <p:spPr>
          <a:xfrm>
            <a:off x="739800" y="2190600"/>
            <a:ext cx="8604360" cy="31734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change in physiological calcium level induces a volume chang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842320" y="7013520"/>
            <a:ext cx="1143000" cy="457200"/>
          </a:xfrm>
          <a:prstGeom prst="rect">
            <a:avLst/>
          </a:prstGeom>
          <a:ln w="0">
            <a:noFill/>
          </a:ln>
        </p:spPr>
      </p:pic>
      <p:pic>
        <p:nvPicPr>
          <p:cNvPr id="63" name="" descr=""/>
          <p:cNvPicPr/>
          <p:nvPr/>
        </p:nvPicPr>
        <p:blipFill>
          <a:blip r:embed="rId2"/>
          <a:stretch/>
        </p:blipFill>
        <p:spPr>
          <a:xfrm>
            <a:off x="739800" y="1820880"/>
            <a:ext cx="8604360" cy="391176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extracellular calcium removal on cell elasticity and effect of cytochalasin D on cell volume and structur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842320" y="7013520"/>
            <a:ext cx="1143000" cy="457200"/>
          </a:xfrm>
          <a:prstGeom prst="rect">
            <a:avLst/>
          </a:prstGeom>
          <a:ln w="0">
            <a:noFill/>
          </a:ln>
        </p:spPr>
      </p:pic>
      <p:pic>
        <p:nvPicPr>
          <p:cNvPr id="68" name="" descr=""/>
          <p:cNvPicPr/>
          <p:nvPr/>
        </p:nvPicPr>
        <p:blipFill>
          <a:blip r:embed="rId2"/>
          <a:stretch/>
        </p:blipFill>
        <p:spPr>
          <a:xfrm>
            <a:off x="1146240" y="1079640"/>
            <a:ext cx="7794720" cy="5394240"/>
          </a:xfrm>
          <a:prstGeom prst="rect">
            <a:avLst/>
          </a:prstGeom>
          <a:ln w="0">
            <a:noFill/>
          </a:ln>
        </p:spPr>
      </p:pic>
      <p:sp>
        <p:nvSpPr>
          <p:cNvPr id="69" name=""/>
          <p:cNvSpPr/>
          <p:nvPr/>
        </p:nvSpPr>
        <p:spPr>
          <a:xfrm>
            <a:off x="114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fluorescence localization of Cx43 in BICR–M1Rk cells (A–C), KOM-1 bovine aortic endothelial cells (D–F), GM04260 fibroblast cells (G–I), and Cx43-transfected N2A neuroblastoma cells (J–L) by confocal laser scanning microscopy.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8842320" y="7013520"/>
            <a:ext cx="1143000" cy="457200"/>
          </a:xfrm>
          <a:prstGeom prst="rect">
            <a:avLst/>
          </a:prstGeom>
          <a:ln w="0">
            <a:noFill/>
          </a:ln>
        </p:spPr>
      </p:pic>
      <p:pic>
        <p:nvPicPr>
          <p:cNvPr id="73" name="" descr=""/>
          <p:cNvPicPr/>
          <p:nvPr/>
        </p:nvPicPr>
        <p:blipFill>
          <a:blip r:embed="rId2"/>
          <a:stretch/>
        </p:blipFill>
        <p:spPr>
          <a:xfrm>
            <a:off x="1660680" y="1079640"/>
            <a:ext cx="6764040" cy="5394240"/>
          </a:xfrm>
          <a:prstGeom prst="rect">
            <a:avLst/>
          </a:prstGeom>
          <a:ln w="0">
            <a:noFill/>
          </a:ln>
        </p:spPr>
      </p:pic>
      <p:sp>
        <p:nvSpPr>
          <p:cNvPr id="74" name=""/>
          <p:cNvSpPr/>
          <p:nvPr/>
        </p:nvSpPr>
        <p:spPr>
          <a:xfrm>
            <a:off x="1660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ye uptake properties of hemichannels in BICR–M1Rk epithelial cells (A and B), KOM-1 endothelial cells (C and D), GM04260 fibroblast cells (E and F), HeLa cells (G and H), N2A neuroblastoma cells (I and J), and Cx43-transfected N2A cells (K and L).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8842320" y="7013520"/>
            <a:ext cx="1143000" cy="457200"/>
          </a:xfrm>
          <a:prstGeom prst="rect">
            <a:avLst/>
          </a:prstGeom>
          <a:ln w="0">
            <a:noFill/>
          </a:ln>
        </p:spPr>
      </p:pic>
      <p:pic>
        <p:nvPicPr>
          <p:cNvPr id="78" name="" descr=""/>
          <p:cNvPicPr/>
          <p:nvPr/>
        </p:nvPicPr>
        <p:blipFill>
          <a:blip r:embed="rId2"/>
          <a:stretch/>
        </p:blipFill>
        <p:spPr>
          <a:xfrm>
            <a:off x="739800" y="1854360"/>
            <a:ext cx="8604360" cy="384480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qualitative relationship between dye uptake and the extracellular Ca2+ level.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8842320" y="7013520"/>
            <a:ext cx="1143000" cy="457200"/>
          </a:xfrm>
          <a:prstGeom prst="rect">
            <a:avLst/>
          </a:prstGeom>
          <a:ln w="0">
            <a:noFill/>
          </a:ln>
        </p:spPr>
      </p:pic>
      <p:pic>
        <p:nvPicPr>
          <p:cNvPr id="83" name="" descr=""/>
          <p:cNvPicPr/>
          <p:nvPr/>
        </p:nvPicPr>
        <p:blipFill>
          <a:blip r:embed="rId2"/>
          <a:stretch/>
        </p:blipFill>
        <p:spPr>
          <a:xfrm>
            <a:off x="739800" y="1625760"/>
            <a:ext cx="8604360" cy="430200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jan Pieter Quist et al. J Cell Biol 2000;148:1063-107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00 The Rockefeller University Pres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