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Different features of α-tubulin isotypes and the brain malformation–related mutant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(A) Tuba1a S140G prefers to exhibit straighter conformation, which is measured by the intradimer angle between the core helix H7 of α- and β-tubulins. The microtubules containing Tuba1a S140G show straighter morphologies, which may result in different neuronal behaviors: more branching, loss of migration directionality, and slower migration. (B) Tuba1a and Tuba8 show different charge distribution in the H1-S2 loop. Tuba8-containing microtubules exhibit higher polymerization speed and less straightness, compared with Tuba1a. The structural images with the charge distribution are adapted from Belvindrah et al. (2017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ubulin isotype specificity in neuronal migration: Tuba8 can’t fill in for Tuba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akeshi Kawauch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C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():jcb.20170517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uly 7,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 2017 Kawauch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842320" y="7013520"/>
            <a:ext cx="114300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ifferent features of α-tubulin isotypes and the brain malformation–related muta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842320" y="7013520"/>
            <a:ext cx="1143000" cy="457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66880" y="1079640"/>
            <a:ext cx="655164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688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keshi Kawauchi J Cell Biol doi:10.1083/jcb.2017051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 2017 Kawauch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